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9A36-2210-4AA8-B585-162982411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remove the tarnish by multiplying both sides of the equation by the reciprocal of the number that is the “tarnis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is slide, putting an explanation below each equation of how you would use the mud and tarnish to solve the equation, such 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add 5 to both sides of the equation, and then divide both sides of the equation by 4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29E32-31EC-44AD-BE17-CEE0D9FA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E427-6E0A-4D46-B510-320C0C5C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B348-5BF5-44A9-AC45-E52BC830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AF4A-BDB1-4B92-B12C-4BA2A9FA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D182-0A23-47FC-AB5C-801B583F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C63B-B44F-439C-99F4-8CE65208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2462-A489-48FB-B2CC-E5CADD65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7B8B-E952-4854-86FB-87D36191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9F3F-EB7C-4EBE-AE7A-1CBA8A27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F925-429A-42E6-8A22-0F490000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CB35-B6C7-432B-9031-C27E937E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9A87-5AF0-4E6D-BB37-3FEF6974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ED77-1C41-4087-A8C6-B7C0450B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B3C8-F7FD-48CB-896A-7223CF1B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FC7B-6E06-46D0-8905-6D85F429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EEFE-2846-4101-873B-3359041C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3AFB-6EE5-4C2B-9D03-9E25BDF1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2C06-E9B2-4264-B22B-4D1E65C7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6C81-820D-428C-B91D-67EC4E6F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3AFA-9B74-44ED-832A-78E6C131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966F-AC5D-47FB-9DDF-F0A12204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3257-9B26-4B76-BB45-9D2F61BF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B85C-CE5C-42D2-960E-6E3E8EC1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0B02-BC29-42BA-8307-BFA0B1F1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7B15-E172-4BC8-8BBE-26F8D48DE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57A6-D0D4-4B99-90B0-27D091B32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ving Single Variable Linear Equations 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e Mud/Tarnish proble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honda Renk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er 200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8108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What are the steps in solving an linear equation with one variable using the mud/tarnish strateg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EP 1: Identify the M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solidFill>
            <a:srgbClr val="0000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the number that is on the same side of the equation as the variable you are solving f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dd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btract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tha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 remove the MUD, perform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x + 4 = 6    Four is added to 2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ubtract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4 from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x - 3  = 4.  Three is subtracted from 7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Add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 to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2: Identify the TARN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NISH is the number tha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vi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variable that you are solving for (such as 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move the TARNISH, perform 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2x = 4       Two is multiplied times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x/3 = 6       x is divided by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identify the MUD (Step 1)and TARNISH (Step 2) in these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x + 2 = 1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x = 2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0       Tarnish:  x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x – 4 = 4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/3 – 8 = 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w that you can identify the MUD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d TARNISH, explain how to use this information to solve the following equ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x + 2 = 12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ubtract 2 from both sides, and then divide both sides by 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x – 4 = 4 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d 4 to both sides, and then divide both sides by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How would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you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finish this probl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/3 – 8 = 13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 can use the “mud/tarnish” strategy to solve many types of algebra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99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one variable like the ones you’ve just s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more than on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other variables as if they were ju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 and tarnish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fractions, square roots, even complex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ypes of numbers and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“mud and tarnish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15200" cy="76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is another way to look at solving linear equation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743040"/>
            <a:ext cx="7467480" cy="608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, when you are solving equations using the mud/tarnish metho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343400" cy="441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equation  remaining after you clean off the mud and tar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you are solving f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it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19760" y="3360600"/>
            <a:ext cx="307188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THE    END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476520" y="3114720"/>
            <a:ext cx="2806920" cy="2074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ngle variable equations can seem tricky, at first, so begin by asking yourself sever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solve the equation 3x + 5 =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I broke the problem down into step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first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second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know what part of the equation to use for each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72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o solve a problem, it helps to relate it to something that is entirely 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si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la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5 = 1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lieve: Cleaning the muddy, tarnished rings of ancient Roman sold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we start to solve our algebra problem, we need to learn a little about these Romans and their r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years ago, Roman soldiers fought  battles against fierce tribes in what is now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oldiers buried their rings and other jewelry before battle to protect their valu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oldiers died in batt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the soldiers survived the battle, but just couldn’t remember where they had buried their jewelry.  (They must have dug a lot of holes trying to find 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day, people with metal detectors in England, Germany, and even in Eastern Europe find this jewelry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95800" y="2709720"/>
            <a:ext cx="3976920" cy="307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y find Roman rings in the m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se rings are clea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tar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usually, these rings are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tarni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38520" cy="241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3880" y="42195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pretend YOU found a Roman ri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and it was muddy AND tarnish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How woul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ea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457344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o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r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r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rn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 the outside of the 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t is what you would clean off fir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ar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arder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clean it of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compare the mud and tarnish to parts of our equ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3 x + 5 =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UD in this eq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5 is the mud.  It is the easiest part of the equation to “clean up”, as it is only added to the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get rid of the mu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We “wash off” the mud, 5,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trac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oth sides of the equ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subtracting 5 is the inverse of adding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x + 5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4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x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the mud is gone, what is the                        TARNISH in the equ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x = 9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RNISH is the number 3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“attached” to x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“remove the tarnish”, you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h sides of the equation by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3  because division is the inverse operation of multi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x / 3 = 9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3:13:47Z</dcterms:created>
  <dc:creator>Rhonda Renker</dc:creator>
  <dc:description/>
  <dc:language>en-US</dc:language>
  <cp:lastModifiedBy>Rhonda Renker</cp:lastModifiedBy>
  <dcterms:modified xsi:type="dcterms:W3CDTF">2008-07-05T04:00:06Z</dcterms:modified>
  <cp:revision>40</cp:revision>
  <dc:subject/>
  <dc:title>Solving Single Variable Equations</dc:title>
</cp:coreProperties>
</file>